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4BED-2DAE-4666-8B33-B8963CBE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CBAE-E637-4D55-8112-924AEBA7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CF16-819B-42E6-940F-B62F3954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7D72-4947-4C53-925A-3B998F7B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DE99-7CAD-4878-BBB7-A437E19C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AA0A-82D6-4608-9649-87E82598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8AD4-DD77-4860-ACD8-32CC9FA7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02CB-8B5A-44ED-8F75-E1313CDC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B3A4-0B8B-4A29-A5D2-AE85B47F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B55D-0C2B-4C66-8C84-F2239A94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C2FE-4F06-4B2F-9533-BA19609E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4786-E5F4-4054-9710-724931C1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3864-8392-4D11-9B13-9E0CA1A2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B407-28BC-4C13-B8B3-98F7E4EF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DCEB-E339-4BC0-9259-084D55D2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9C9E-5109-4677-B0D1-F68561B0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9ED8-7D61-4E02-BC4B-68C30065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26F4-41E3-4EEE-A266-8689C990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118F-BA64-4347-A5C5-B7DF6A26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B1E5-8E18-47FE-BBBD-7C9527D4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78F8-C136-42A8-A553-CE3F303A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6FA9-C9E8-4C12-8F53-3DB02AF5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D6F0-9D46-41F3-B36D-4CE889E3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F409-F3DA-4C1F-8A10-CDC7EB0E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8CD9-D535-4C8A-9827-A52C3F00605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18EA-A2D2-454A-8B59-093721D7A3F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it-IT" sz="6000" spc="-1" strike="noStrike">
                <a:solidFill>
                  <a:srgbClr val="996633"/>
                </a:solidFill>
                <a:latin typeface="Times New Roman"/>
              </a:rPr>
              <a:t>IL SEICENTO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72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a08366"/>
                </a:solidFill>
                <a:latin typeface="Arial"/>
              </a:rPr>
              <a:t>Il secolo di ferro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34B4-F745-4F81-B4B3-B706830889E3}" type="slidenum">
              <a:t>1</a:t>
            </a:fld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996633"/>
                </a:solidFill>
                <a:latin typeface="Times New Roman"/>
              </a:rPr>
              <a:t>Concorrenza tra gli stati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02000"/>
                </a:solidFill>
                <a:latin typeface="Times New Roman"/>
              </a:rPr>
              <a:t>Grande commercio internazionale e scontro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02000"/>
                </a:solidFill>
                <a:latin typeface="Times New Roman"/>
              </a:rPr>
              <a:t>Non cresce la produzione e il commercio: accaparramento e limitazione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02000"/>
                </a:solidFill>
                <a:latin typeface="Times New Roman"/>
              </a:rPr>
              <a:t>Intreccio Stato e grande finanza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02000"/>
                </a:solidFill>
                <a:latin typeface="Times New Roman"/>
              </a:rPr>
              <a:t>Importazioni - esportazioni – dazi: attivo bilancia dei pagamenti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6793-C4C4-4064-A9FE-11B60C95EAF8}" type="slidenum">
              <a:t>10</a:t>
            </a:fld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996633"/>
                </a:solidFill>
                <a:latin typeface="Times New Roman"/>
              </a:rPr>
              <a:t>STATO E SOCIETA’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402000"/>
                </a:solidFill>
                <a:latin typeface="Times New Roman"/>
              </a:rPr>
              <a:t>Conformismo e innovazione</a:t>
            </a:r>
            <a:r>
              <a:rPr b="0" lang="it-IT" sz="4400" spc="-1" strike="noStrike">
                <a:solidFill>
                  <a:srgbClr val="402000"/>
                </a:solidFill>
                <a:latin typeface="Times New Roman"/>
              </a:rPr>
              <a:t>: dalle guerre di religione all’origine della tolleranz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402000"/>
                </a:solidFill>
                <a:latin typeface="Times New Roman"/>
              </a:rPr>
              <a:t>Legittimità e autorità</a:t>
            </a:r>
            <a:r>
              <a:rPr b="0" lang="it-IT" sz="4400" spc="-1" strike="noStrike">
                <a:solidFill>
                  <a:srgbClr val="402000"/>
                </a:solidFill>
                <a:latin typeface="Times New Roman"/>
              </a:rPr>
              <a:t>: resistenza, obbedienza, rivoluzione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E5F3-61F7-4226-A426-CBB313599CCF}" type="slidenum">
              <a:t>11</a:t>
            </a:fld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42920" y="1628640"/>
            <a:ext cx="77724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02000"/>
                </a:solidFill>
                <a:latin typeface="Times New Roman"/>
              </a:rPr>
              <a:t>Repressione spagnola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02000"/>
                </a:solidFill>
                <a:latin typeface="Times New Roman"/>
              </a:rPr>
              <a:t>Resistenza calvinista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02000"/>
                </a:solidFill>
                <a:latin typeface="Times New Roman"/>
              </a:rPr>
              <a:t>Sviluppo economico, espansione demografica e commercial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02000"/>
                </a:solidFill>
                <a:latin typeface="Times New Roman"/>
              </a:rPr>
              <a:t>Potenza economica di livello mondial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02000"/>
                </a:solidFill>
                <a:latin typeface="Times New Roman"/>
              </a:rPr>
              <a:t>Da Anversa ad Amsterdam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996633"/>
                </a:solidFill>
                <a:latin typeface="Times New Roman"/>
              </a:rPr>
              <a:t>RELIGIONE </a:t>
            </a:r>
            <a:r>
              <a:rPr b="1" lang="it-IT" sz="4800" spc="-1" strike="noStrike">
                <a:solidFill>
                  <a:srgbClr val="996633"/>
                </a:solidFill>
                <a:latin typeface="Times New Roman"/>
              </a:rPr>
              <a:t>E SOCIETA’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A3C8-6766-4DB1-A9A8-1FC945347626}" type="slidenum">
              <a:t>12</a:t>
            </a:fld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02000"/>
                </a:solidFill>
                <a:latin typeface="Times New Roman"/>
              </a:rPr>
              <a:t>sviluppo del commercio, dell’agricoltura, del settore manifatturiero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02000"/>
                </a:solidFill>
                <a:latin typeface="Times New Roman"/>
              </a:rPr>
              <a:t>grande proprietà e privatizzazione: recinzioni (enclosures)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02000"/>
                </a:solidFill>
                <a:latin typeface="Times New Roman"/>
              </a:rPr>
              <a:t>Gentry (piccola nobiltà)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02000"/>
                </a:solidFill>
                <a:latin typeface="Times New Roman"/>
              </a:rPr>
              <a:t>Yeomen (ceti borghesi)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02000"/>
                </a:solidFill>
                <a:latin typeface="Times New Roman"/>
              </a:rPr>
              <a:t>Impoverimento dei contadini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996633"/>
                </a:solidFill>
                <a:latin typeface="Times New Roman"/>
              </a:rPr>
              <a:t>INGHILTERR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DF6C-298F-4AF6-A19E-6C7980BBC9CF}" type="slidenum">
              <a:t>13</a:t>
            </a:fld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02000"/>
                </a:solidFill>
                <a:latin typeface="Times New Roman"/>
              </a:rPr>
              <a:t>Scoperta nuove terre, traffici coloniali, sovranità territori extraeuropei, colonialismo e mercantilismo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02000"/>
                </a:solidFill>
                <a:latin typeface="Times New Roman"/>
              </a:rPr>
              <a:t>Formazione potente flotta di guerra per contrastare Olanda, Francia, Spagna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02000"/>
                </a:solidFill>
                <a:latin typeface="Times New Roman"/>
              </a:rPr>
              <a:t>Supremazia marittima e commerciale sul mondo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996633"/>
                </a:solidFill>
                <a:latin typeface="Times New Roman"/>
              </a:rPr>
              <a:t>INGHILTERR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7941-9C83-4F31-A153-F5A8F5F32675}" type="slidenum">
              <a:t>14</a:t>
            </a:fld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996633"/>
                </a:solidFill>
                <a:latin typeface="Times New Roman"/>
              </a:rPr>
              <a:t>Crisi e ribaltamento degli equilibri economici</a:t>
            </a:r>
            <a:endParaRPr b="0" lang="en-US" sz="4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stagnazione demografica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calo della produzion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diminuzione degli investimenti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calo complessivo degli scambi commerciali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espansione, ristagno e depression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44BC-5F66-44EF-B1F6-725144C236E9}" type="slidenum">
              <a:t>2</a:t>
            </a:fld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it-IT" sz="4800" spc="-1" strike="noStrike">
                <a:solidFill>
                  <a:srgbClr val="996633"/>
                </a:solidFill>
                <a:latin typeface="Times New Roman"/>
              </a:rPr>
              <a:t>Stagnazione demografica</a:t>
            </a:r>
            <a:br>
              <a:rPr sz="4800"/>
            </a:br>
            <a:r>
              <a:rPr b="1" lang="it-IT" sz="3600" spc="-1" strike="noStrike">
                <a:solidFill>
                  <a:srgbClr val="996633"/>
                </a:solidFill>
                <a:latin typeface="Times New Roman"/>
              </a:rPr>
              <a:t>tra la fine del ‘500 e inizio del ‘700</a:t>
            </a:r>
            <a:br>
              <a:rPr sz="3200"/>
            </a:br>
            <a:br>
              <a:rPr sz="4800"/>
            </a:b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41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402000"/>
                </a:solidFill>
                <a:latin typeface="Times New Roman"/>
              </a:rPr>
              <a:t>Cause e interdipendenza</a:t>
            </a:r>
            <a:r>
              <a:rPr b="1" lang="it-IT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402000"/>
                </a:solidFill>
                <a:latin typeface="Times New Roman"/>
              </a:rPr>
              <a:t>guerra</a:t>
            </a:r>
            <a:r>
              <a:rPr b="0" lang="it-IT" sz="4200" spc="-1" strike="noStrike">
                <a:solidFill>
                  <a:srgbClr val="402000"/>
                </a:solidFill>
                <a:latin typeface="Times New Roman"/>
              </a:rPr>
              <a:t> (dei trent’anni)</a:t>
            </a:r>
            <a:endParaRPr b="0" lang="en-US" sz="4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it-IT" sz="4200" spc="-1" strike="noStrike">
                <a:solidFill>
                  <a:srgbClr val="402000"/>
                </a:solidFill>
                <a:latin typeface="Times New Roman"/>
              </a:rPr>
              <a:t>carestia</a:t>
            </a:r>
            <a:r>
              <a:rPr b="0" lang="it-IT" sz="4200" spc="-1" strike="noStrike">
                <a:solidFill>
                  <a:srgbClr val="402000"/>
                </a:solidFill>
                <a:latin typeface="Times New Roman"/>
              </a:rPr>
              <a:t> (difficoltà agricoltura) </a:t>
            </a:r>
            <a:endParaRPr b="0" lang="en-US" sz="4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1" lang="it-IT" sz="4200" spc="-1" strike="noStrike">
                <a:solidFill>
                  <a:srgbClr val="402000"/>
                </a:solidFill>
                <a:latin typeface="Times New Roman"/>
              </a:rPr>
              <a:t>peste</a:t>
            </a:r>
            <a:r>
              <a:rPr b="0" lang="it-IT" sz="4200" spc="-1" strike="noStrike">
                <a:solidFill>
                  <a:srgbClr val="402000"/>
                </a:solidFill>
                <a:latin typeface="Times New Roman"/>
              </a:rPr>
              <a:t> (intera Europa)</a:t>
            </a:r>
            <a:endParaRPr b="0" lang="en-US" sz="4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57D6-CA0A-4BFA-B745-3FFDA23F6EF0}" type="slidenum">
              <a:t>3</a:t>
            </a:fld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996633"/>
                </a:solidFill>
                <a:latin typeface="Times New Roman"/>
              </a:rPr>
              <a:t>Stagnazione demografica</a:t>
            </a:r>
            <a:endParaRPr b="0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Flessione nell’area mediterranea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Espansione regioni del nord Europa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Maggiore intensità delle crisi agricole e rigidità del sistema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Peggioramento del clima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A866-1495-4960-8F01-9DB2B6D1B9D5}" type="slidenum">
              <a:t>4</a:t>
            </a:fld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996633"/>
                </a:solidFill>
                <a:latin typeface="Times New Roman"/>
              </a:rPr>
              <a:t>Fase economica complessa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402000"/>
                </a:solidFill>
                <a:latin typeface="Times New Roman"/>
              </a:rPr>
              <a:t>Depressione: diminuzione investimenti, riduzione scambi commerciali, caduta prezzi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402000"/>
                </a:solidFill>
                <a:latin typeface="Times New Roman"/>
              </a:rPr>
              <a:t>Sviluppo: riorganizzazione economia europea e ribaltamento equilibri (stati mediterranei e atlantici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402000"/>
                </a:solidFill>
                <a:latin typeface="Times New Roman"/>
              </a:rPr>
              <a:t>Crisi “polivalente”: Polonia e Inghilterr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7F89-FA03-4CB9-B8B0-D2B630A241ED}" type="slidenum">
              <a:t>5</a:t>
            </a:fld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996633"/>
                </a:solidFill>
                <a:latin typeface="Times New Roman"/>
              </a:rPr>
              <a:t>Fase economica complessa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Rifeudalizzazione</a:t>
            </a:r>
            <a:r>
              <a:rPr b="0" lang="it-IT" sz="4000" spc="-1" strike="noStrike">
                <a:solidFill>
                  <a:srgbClr val="402000"/>
                </a:solidFill>
                <a:latin typeface="Times New Roman"/>
              </a:rPr>
              <a:t> (Europa dell’Est)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Espansione</a:t>
            </a:r>
            <a:r>
              <a:rPr b="0" lang="it-IT" sz="4000" spc="-1" strike="noStrike">
                <a:solidFill>
                  <a:srgbClr val="402000"/>
                </a:solidFill>
                <a:latin typeface="Times New Roman"/>
              </a:rPr>
              <a:t> (Inghilterra – Olanda)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Ristagno</a:t>
            </a:r>
            <a:r>
              <a:rPr b="0" lang="it-IT" sz="4000" spc="-1" strike="noStrike">
                <a:solidFill>
                  <a:srgbClr val="402000"/>
                </a:solidFill>
                <a:latin typeface="Times New Roman"/>
              </a:rPr>
              <a:t> (Francia)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Depressione</a:t>
            </a:r>
            <a:r>
              <a:rPr b="0" lang="it-IT" sz="4000" spc="-1" strike="noStrike">
                <a:solidFill>
                  <a:srgbClr val="402000"/>
                </a:solidFill>
                <a:latin typeface="Times New Roman"/>
              </a:rPr>
              <a:t> (Spagna, Portogallo, Italia, Impero Ottomano)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DA4F-6555-454B-9694-85D874E89E12}" type="slidenum">
              <a:t>6</a:t>
            </a:fld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996633"/>
                </a:solidFill>
                <a:latin typeface="Times New Roman"/>
              </a:rPr>
              <a:t>Colonialismo</a:t>
            </a: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Imperi coloniali parte integrante del sistema economico europeo: economia mondo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Espansione tratta degli schiavi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Atlantizzazion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Controllo del Mediterraneo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C74B-299E-4D22-AD8F-E8873D6C79D4}" type="slidenum">
              <a:t>7</a:t>
            </a:fld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996633"/>
                </a:solidFill>
                <a:latin typeface="Times New Roman"/>
              </a:rPr>
              <a:t>Sostituzioni</a:t>
            </a: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402000"/>
                </a:solidFill>
                <a:latin typeface="Times New Roman"/>
              </a:rPr>
              <a:t>Olanda al posto dell’Italia nella produzione manifatturiera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402000"/>
                </a:solidFill>
                <a:latin typeface="Times New Roman"/>
              </a:rPr>
              <a:t>Olandesi al posto dei portoghesi nel commercio con l’India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402000"/>
                </a:solidFill>
                <a:latin typeface="Times New Roman"/>
              </a:rPr>
              <a:t>Olandesi e inglesi al posto di Venezia nel Mediterraneo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402000"/>
                </a:solidFill>
                <a:latin typeface="Times New Roman"/>
              </a:rPr>
              <a:t>I mercati rimanevano comunque stazionari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C7E3-5896-4A6B-A88B-4276EBCB7943}" type="slidenum">
              <a:t>8</a:t>
            </a:fld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996633"/>
                </a:solidFill>
                <a:latin typeface="Times New Roman"/>
              </a:rPr>
              <a:t>STATO E SOCIETA’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82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Assolutismo e mercantilismo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Intervento dello stato in economia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Difesa della moneta e dei metalli preziosi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Economia nazionale e protezionismo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3D05-C854-45D0-9857-98F52CFE7B26}" type="slidenum">
              <a:t>9</a:t>
            </a:fld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0T20:03:02Z</dcterms:created>
  <dc:creator>Distefano</dc:creator>
  <dc:description/>
  <dc:language>en-US</dc:language>
  <cp:lastModifiedBy>.</cp:lastModifiedBy>
  <cp:lastPrinted>1998-03-26T06:40:34Z</cp:lastPrinted>
  <dcterms:modified xsi:type="dcterms:W3CDTF">2008-05-08T18:08:37Z</dcterms:modified>
  <cp:revision>28</cp:revision>
  <dc:subject/>
  <dc:title>Manuale di storia per il triennio</dc:title>
</cp:coreProperties>
</file>